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A5E8-D34F-43DD-A397-AED8CB869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B2B0-0FBB-4567-AE25-E08B50AE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732A-997D-483C-AFAC-AC2B2E109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684A-FCC7-4C04-9857-260C84B5E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62FB0-7DB8-4057-A866-DB1A3F58C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A963-2461-4514-81BD-C30486412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54B0-A6A5-4F48-AD00-A115AD581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64BEC-D698-451D-8693-0AA6ACC4B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A9CB-A58F-402E-B34D-60FFE3E0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79A9-942A-4F33-85D5-57E114F6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238DC-AFEC-45B3-AA37-734300D0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BA3-9C6F-4B86-91A8-33C1207FF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BABCD-BC32-44EE-A596-F3BE1BEA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F048-9777-4268-8757-C04380E6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B2BB-7EC1-4351-A5DB-C1E7DCF6F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0D27-FB16-4A7E-860B-C4A8C21EF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8D4BA-BFBF-4404-941E-632A4A2E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65205-F5CB-476E-A414-04EC4E9B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F6EF3-CB92-461E-B703-55C01D6F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886A3-334B-45E3-9FC1-4F8D5B1E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54827-B666-4C10-B393-96B96C46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6CD63-A5E7-4781-B552-C6736FEA2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F603-7058-4923-B396-C642EAB30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98CD7-3AAC-42B6-BDD4-14EB873F2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2C48F5-8770-45D6-8D0C-DD0B8A22B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91416-0A18-4367-8C29-4FC418D8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95D30-B827-4627-88F6-CC6F09B6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F9032-0776-4154-926D-DE89DC3E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16F6D-6AC9-4B25-B510-AB22B2153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BAB0E-F578-4C8D-B3E3-02123E48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116D4-9DEB-4708-8862-CEF18A809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649DB-9A41-4CD5-AE97-A91B3756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75074-49A5-4B97-9B73-BF2BA52C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9C65-BB2F-445C-9BF6-A6542A8D5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BE830-116B-4C2C-9AB9-BF1D79C4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BA532-24E2-478B-A175-0545E653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15497-2F76-4C1A-8FA6-534DEA1A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1977B8-2FA6-4211-A8EE-646A7EE1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81F157-E6C4-4CA7-BEE2-55AF9CE4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682FD-2048-402E-AED8-FD83B7EE0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EF810-E2E1-46BA-AF75-390E3892F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2DC28-D30F-408F-AFD7-CE4D64A8F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D6697-9907-45EE-BB2A-34993BBF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57D4-FCE7-4C3B-B71B-E0C721A2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386D-0F24-405E-8597-33B0EC46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6678-8284-4D28-A81A-A060993F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8D1C-FD4B-46A9-94C8-AD0D6A1B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8584-37AC-47B3-B680-5AE2D995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0697-0896-4B82-829F-052CA9E12F6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1DA41-0181-45B9-BC80-BDB807FC47D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9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9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0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98" name="Freeform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FBBA-6F6E-4267-8F11-FBD73F963BA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nip and Round Single Corner Rectangle 6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ight Triangle 7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8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reeform 9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39DD-698F-4336-A8A0-94982C994A2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600" spc="-1" strike="noStrike">
                <a:solidFill>
                  <a:srgbClr val="e2d700"/>
                </a:solidFill>
                <a:latin typeface="Arial"/>
              </a:rPr>
              <a:t>РЕГУЛАЦИЈА ГЕНСКЕ АКТИВНОСТИ</a:t>
            </a:r>
            <a:r>
              <a:rPr b="1" lang="en-US" sz="5600" spc="-1" strike="noStrike">
                <a:solidFill>
                  <a:srgbClr val="e2d700"/>
                </a:solidFill>
                <a:latin typeface="Arial"/>
              </a:rPr>
              <a:t> КОД ЕУКАРИОТА</a:t>
            </a:r>
            <a:endParaRPr b="0" lang="en-US" sz="5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47560" y="4191120"/>
            <a:ext cx="6553080" cy="169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2d700"/>
                </a:solidFill>
                <a:latin typeface="Arial"/>
              </a:rPr>
              <a:t>Регулација транскрип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2d700"/>
                </a:solidFill>
                <a:latin typeface="Arial"/>
              </a:rPr>
              <a:t>Регулација трансла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Г) Метилација ДНК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-360" y="312408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везивање метил груп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C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 цитозин (</a:t>
            </a: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С)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у промотору транскрипционе једин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речава транскрипциј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табилизује нуклеозомалну структуру чиме је отежано отварање хроматина за транскрипциј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8320" y="990360"/>
            <a:ext cx="4495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Ензим одговоран за метилацију ј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МЕТИЛАЗ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а метилисани </a:t>
            </a:r>
            <a:r>
              <a:rPr b="0" i="1" lang="sr-C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се у другом ланцу повезује са </a:t>
            </a:r>
            <a:r>
              <a:rPr b="0" i="1" lang="sr-Latn-C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нема промене нуклеотидне секвен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0000"/>
                </a:solidFill>
                <a:latin typeface="Arial"/>
              </a:rPr>
              <a:t>Деметилациј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етилација је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новији еволутивни  механиза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контроле ген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илација у соматској ћелији се наслеђује кроз деобе, па ћерке ћелије имају исте инактивисане гене као мајка ћелија</a:t>
            </a:r>
            <a:r>
              <a:rPr b="0" lang="sr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sr-CS" sz="1800" spc="-1" strike="noStrike">
                <a:solidFill>
                  <a:srgbClr val="ff0000"/>
                </a:solidFill>
                <a:latin typeface="Arial"/>
              </a:rPr>
              <a:t>облик ћелијске мемориј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о шт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нема промене нуклеотидне секвенце, метилација је</a:t>
            </a:r>
            <a:r>
              <a:rPr b="0" lang="sr-Latn-C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ЕПИГЕНЕТ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ИЧ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КИ регулаторни механизам.</a:t>
            </a:r>
            <a:r>
              <a:rPr b="0" lang="sr-Latn-CS" sz="1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5" descr="Gene regulation 16"/>
          <p:cNvPicPr/>
          <p:nvPr/>
        </p:nvPicPr>
        <p:blipFill>
          <a:blip r:embed="rId1"/>
          <a:stretch/>
        </p:blipFill>
        <p:spPr>
          <a:xfrm>
            <a:off x="533520" y="1295280"/>
            <a:ext cx="301608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68544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Три феномена укључују метилацију као механизам активације гена</a:t>
            </a:r>
            <a:r>
              <a:rPr b="1" lang="sr-Latn-C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елијска диференциј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активација Х хромоз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еномски импринтин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 Диференцијација ћелија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876312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снива се на ћелијској меморији - ћерке ћелије имају исте искључене гене као мајка ћел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мерена је диференцијација ћелија у одређеном правц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2. Инактивација Х хромозома - Барово тело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1920" y="1980720"/>
            <a:ext cx="403884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зна компензација гена код жена у односу на мушкарц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леђује се кроз митотичке деоб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ханизам инактивације –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Х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 инактивациони цента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у њему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XIST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 г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42670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IST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ген се на инактивном Х хромозому је активан - транскрибује се на инактиваторне РНК (Барово тело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XIST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ген на активном Х хромозому је искључен метилацијом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  мејоз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cc"/>
                </a:solidFill>
                <a:latin typeface="Arial"/>
              </a:rPr>
              <a:t>деметилациј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3. Геномски импринтинг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пољавање функције гена у зависности од ког родитеља је ген наслеђ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основи је метилација ДН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шава се током гаметогенез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 да буд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575"/>
              </a:spcBef>
              <a:buClr>
                <a:srgbClr val="009dd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cc"/>
                </a:solidFill>
                <a:latin typeface="Arial"/>
              </a:rPr>
              <a:t>генски импринтинг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2" marL="1314360" indent="-399960">
              <a:lnSpc>
                <a:spcPct val="80000"/>
              </a:lnSpc>
              <a:spcBef>
                <a:spcPts val="575"/>
              </a:spcBef>
              <a:buClr>
                <a:srgbClr val="009dd9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cc"/>
                </a:solidFill>
                <a:latin typeface="Arial"/>
              </a:rPr>
              <a:t>хромозомски импринтинг</a:t>
            </a:r>
            <a:r>
              <a:rPr b="0" lang="sr-CS" sz="23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Генски импринтинг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cc"/>
                </a:solidFill>
                <a:latin typeface="Arial"/>
              </a:rPr>
              <a:t>Матернал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јчин ген искључен, испољава се функција очевог г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cc"/>
                </a:solidFill>
                <a:latin typeface="Arial"/>
              </a:rPr>
              <a:t>Патернални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чев ген искључен, испољава се функција мајчиног ге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Хромозомски импринтинг -</a:t>
            </a:r>
            <a:r>
              <a:rPr b="1" lang="sr-CS" sz="3600" spc="-1" strike="noStrike">
                <a:solidFill>
                  <a:srgbClr val="0000cc"/>
                </a:solidFill>
                <a:latin typeface="Arial"/>
              </a:rPr>
              <a:t>Унипарентална дизомија (УД)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о хромозомски пар у диплоидном сету води порекло од једног родитељ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тернална 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тернална У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лози настанка У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лођење дизомичног гамета нулизомичн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убљење хромозома из тризомичног зиг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вајање хромозома у монозомичном зиготу -изодизом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р. Прадер Вилијев и Ангелманов синдром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240" y="2468160"/>
            <a:ext cx="85345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рок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икроделеција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15q11-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Д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ромозом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еција очевог хромозома15 или матернална У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3399"/>
                </a:solidFill>
                <a:latin typeface="Arial"/>
              </a:rPr>
              <a:t>Прадер Вилијев 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леција мајчиног хромозома 15 или патернална УД - </a:t>
            </a:r>
            <a:r>
              <a:rPr b="1" lang="sr-CS" sz="2400" spc="-1" strike="noStrike">
                <a:solidFill>
                  <a:srgbClr val="ff3399"/>
                </a:solidFill>
                <a:latin typeface="Arial"/>
              </a:rPr>
              <a:t>Ангелманов синдр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800" spc="-1" strike="noStrike">
                <a:solidFill>
                  <a:srgbClr val="000000"/>
                </a:solidFill>
                <a:latin typeface="Arial"/>
              </a:rPr>
              <a:t>Прадер Вилијев синдром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495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зак ра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ле шаке и стоп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огонозом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нтална ретардац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Q 20-8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Picture 8" descr="fig05-01"/>
          <p:cNvPicPr/>
          <p:nvPr/>
        </p:nvPicPr>
        <p:blipFill>
          <a:blip r:embed="rId1"/>
          <a:stretch/>
        </p:blipFill>
        <p:spPr>
          <a:xfrm>
            <a:off x="6095880" y="1905120"/>
            <a:ext cx="276228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4800" spc="-1" strike="noStrike">
                <a:solidFill>
                  <a:srgbClr val="000000"/>
                </a:solidFill>
                <a:latin typeface="Arial"/>
              </a:rPr>
              <a:t>Ангелманов синдром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стој у развој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шкоћа у говор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иперактивно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наглашен сме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нтална ретард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Constanti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6" descr="Audrey_Short"/>
          <p:cNvPicPr/>
          <p:nvPr/>
        </p:nvPicPr>
        <p:blipFill>
          <a:blip r:embed="rId1"/>
          <a:stretch/>
        </p:blipFill>
        <p:spPr>
          <a:xfrm>
            <a:off x="4191120" y="3686040"/>
            <a:ext cx="2752560" cy="31719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Karsen_Allman_-_Deletion"/>
          <p:cNvPicPr/>
          <p:nvPr/>
        </p:nvPicPr>
        <p:blipFill>
          <a:blip r:embed="rId2"/>
          <a:stretch/>
        </p:blipFill>
        <p:spPr>
          <a:xfrm>
            <a:off x="6091200" y="1447920"/>
            <a:ext cx="30528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8088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руктурне и функционалне карактеристике ћелије зависе од протеина које та ћелија продукуј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теински састав ћелије зависи од транскрипције гена, транслације иРНК у протеине и постојаности самих протеи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2. Транскрипциони ниво регулације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-228960" y="2057040"/>
            <a:ext cx="43434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ко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регулаторних секвенци гена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cis-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делујући елементи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мотор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ојачивачи (енхенсери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игушивачи (сајленсери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граничне секвенце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495680" y="2057040"/>
            <a:ext cx="46483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0" lang="sr-C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Регулаторни протеини</a:t>
            </a:r>
            <a:r>
              <a:rPr b="0" lang="sr-CS" sz="24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sr-Latn-CS" sz="2400" spc="-1" strike="noStrike">
                <a:solidFill>
                  <a:srgbClr val="000000"/>
                </a:solidFill>
                <a:latin typeface="Arial"/>
              </a:rPr>
              <a:t>trans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делујући елемeнти)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ључивачи транскрип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кључивачи транскрип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) Регулаторне секвенце гена: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Промотор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е састоји од: срж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ТАТ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кутије и стартне тачке транскрипц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Проксималне секвенце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спред промотора, на удаљености од око 200  нуклеотида, или у промотору (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CAАT, GC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). Проксималне секвенце појачавају или ређе умањују интензитет транскрипциј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000" indent="-585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Енхенсери и сајленсери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удаљени више хиљ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а нуклеотида испод промотор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CS" sz="2600" spc="-1" strike="noStrike">
                <a:solidFill>
                  <a:srgbClr val="ff0000"/>
                </a:solidFill>
                <a:latin typeface="Arial"/>
              </a:rPr>
              <a:t>дисталне регулаторне секвенц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85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Транскрипциона јединица и регулаторне секвенце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pic>
        <p:nvPicPr>
          <p:cNvPr id="235" name="Picture 6" descr="enhance1"/>
          <p:cNvPicPr/>
          <p:nvPr/>
        </p:nvPicPr>
        <p:blipFill>
          <a:blip r:embed="rId1"/>
          <a:stretch/>
        </p:blipFill>
        <p:spPr>
          <a:xfrm>
            <a:off x="228600" y="2057400"/>
            <a:ext cx="85345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Б) Регулаторни протеини: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44756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улаторни протеини повезани за енхенсере -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АКТИВАТО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улаторни протеини повезани за сајленсере -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ИНХИБИТОРИ</a:t>
            </a:r>
            <a:r>
              <a:rPr b="0" lang="sr-CS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 РЕПРЕСО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28240" y="41148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сте регулаторних протеи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НК везујућ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 се везују једни за друг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-49536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 се везују за РНК полимераз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9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НТРОЛА ТРАНСКРИПЦИЈЕ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240" name="Object 5"/>
          <p:cNvGraphicFramePr/>
          <p:nvPr/>
        </p:nvGraphicFramePr>
        <p:xfrm>
          <a:off x="457200" y="2209680"/>
          <a:ext cx="8229600" cy="42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209680"/>
                    <a:ext cx="8229600" cy="42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Хормони као регулатори тран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рипције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80880" y="22093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роидни, тиреоидни, вит. А и Д - индуцибилни транскрипциони фактор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0000cc"/>
                </a:solidFill>
                <a:latin typeface="Arial"/>
              </a:rPr>
              <a:t>Механизам дејства стероидних хормона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роидни хормон пролази мембрану ћелије и повезује се са интрацелуларним рецепторима, а затим тај комплекс ХОРМОН-РЕЦЕПТОР се повезује са енхенсером у транскрипционој јединици и укључи транскрипцију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Посттранскрипциона регулација</a:t>
            </a:r>
            <a:r>
              <a:rPr b="0" lang="sr-CS" sz="4400" spc="-1" strike="noStrike">
                <a:solidFill>
                  <a:srgbClr val="dbf5f9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ухват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трол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синга - алтернативни сплајсин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) транспорта РН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) стабилности РН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6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А) Контрола процесинга и алтернативни сплајсинг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могућава да један ген детерминише  синтезу различитих протеин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5" descr="intron5"/>
          <p:cNvPicPr/>
          <p:nvPr/>
        </p:nvPicPr>
        <p:blipFill>
          <a:blip r:embed="rId1"/>
          <a:stretch/>
        </p:blipFill>
        <p:spPr>
          <a:xfrm>
            <a:off x="990720" y="3962520"/>
            <a:ext cx="666756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704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Б) Контрола транспорта иРНК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мо 5% зрелих иРНК излази из једра и пређе у цитоплаз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НК које остају у једру</a:t>
            </a:r>
            <a:r>
              <a:rPr b="0" lang="sr-CS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800" spc="-1" strike="noStrike">
                <a:solidFill>
                  <a:srgbClr val="ff00ff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ff0000"/>
                </a:solidFill>
                <a:latin typeface="Arial"/>
              </a:rPr>
              <a:t>дРНК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ицистронске РНК једра) 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чествују у регулацији процеса транскрип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Arial"/>
              </a:rPr>
              <a:t>В) Контрола стабилности РНК</a:t>
            </a:r>
            <a:endParaRPr b="0" lang="en-US" sz="44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виси од дужи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 ре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 негативне живе до 30 м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аткоживеће су и оне које носе </a:t>
            </a:r>
            <a:r>
              <a:rPr b="1" lang="sr-Latn-CS" sz="2400" spc="-1" strike="noStrike">
                <a:solidFill>
                  <a:srgbClr val="ff00ff"/>
                </a:solidFill>
                <a:latin typeface="Arial"/>
              </a:rPr>
              <a:t>A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оновљиве редоследе испре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 репа у кодирајућем регион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аткоживеће су и оне које носе </a:t>
            </a:r>
            <a:r>
              <a:rPr b="1" lang="sr-Latn-CS" sz="2400" spc="-1" strike="noStrike">
                <a:solidFill>
                  <a:srgbClr val="ff00ff"/>
                </a:solidFill>
                <a:latin typeface="Arial"/>
              </a:rPr>
              <a:t>AU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новљиве редоследе у некодирајућем региону испре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 реп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ни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ији су продукти протеини присутни у свим ћелијама чине групу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конститутивних ген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(енгл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ousekeeping gen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ке ћелије продукују већу количину специфичних протеина у одређеним ткивима и у одређеним периодима развој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ференцијална контрола експресије гена дешава се током различитих стадију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704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</a:rPr>
              <a:t>РЕГУЛАЦИЈА ТРАНСЛАЦИЈЕ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улација дужине живота иРН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улација количине протеинске синтез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239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 Регулација дужине живота иРНК</a:t>
            </a:r>
            <a:br>
              <a:rPr sz="4000"/>
            </a:b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Примери:</a:t>
            </a:r>
            <a:endParaRPr b="0" lang="en-US" sz="4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cc"/>
                </a:solidFill>
                <a:latin typeface="Arial"/>
              </a:rPr>
              <a:t>Информозом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гулационим механизмима је онемогућена траслација иРНК из ооците док не одмакне сегментација зиго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i="1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 високој температури престаје синтеза већине протеина, али се активира синтеза протеина топлотног шока (који су одговорни за адаптацију ћелије на нове услове). После адаптације почиње синтеза уобичајених протеи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2. Регулација количине протеинске синтезе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2743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р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интеза глобинских ланаца према количини хе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000000"/>
                </a:solidFill>
                <a:latin typeface="Arial"/>
              </a:rPr>
              <a:t>Посттранслациона регулација</a:t>
            </a:r>
            <a:endParaRPr b="0" lang="en-US" sz="50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арни транслатати нису одмах биолошки функциона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тивација се врши модулацијом у структури протеинског ланц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авни механизми с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сфорил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икозил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теолиз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замин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рбоксилац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апање структуре помоћу шапер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меравање протеина на одредишта у ћелији или ван ње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Пример активације примарног протеин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Синтеза инсули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cc"/>
                </a:solidFill>
                <a:latin typeface="Arial"/>
              </a:rPr>
              <a:t>Препроинсулин</a:t>
            </a:r>
            <a:r>
              <a:rPr b="1" lang="sr-Latn-CS" sz="2600" spc="-1" strike="noStrike">
                <a:solidFill>
                  <a:srgbClr val="0000cc"/>
                </a:solidFill>
                <a:latin typeface="Arial"/>
              </a:rPr>
              <a:t>---</a:t>
            </a:r>
            <a:r>
              <a:rPr b="1" lang="sr-CS" sz="2600" spc="-1" strike="noStrike">
                <a:solidFill>
                  <a:srgbClr val="0000cc"/>
                </a:solidFill>
                <a:latin typeface="Arial"/>
              </a:rPr>
              <a:t>проинсулин</a:t>
            </a:r>
            <a:r>
              <a:rPr b="1" lang="sr-Latn-CS" sz="2600" spc="-1" strike="noStrike">
                <a:solidFill>
                  <a:srgbClr val="0000cc"/>
                </a:solidFill>
                <a:latin typeface="Arial"/>
              </a:rPr>
              <a:t>----</a:t>
            </a:r>
            <a:r>
              <a:rPr b="1" lang="sr-CS" sz="2600" spc="-1" strike="noStrike">
                <a:solidFill>
                  <a:srgbClr val="0000cc"/>
                </a:solidFill>
                <a:latin typeface="Arial"/>
              </a:rPr>
              <a:t>инсулин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10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к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ак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Ц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Ц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ланци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нсулин се састоји од два ланца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A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ланац се састоји од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1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аминокиселин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ланац се састоји од 30 аминокиселине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5" descr="human%20insulin"/>
          <p:cNvPicPr/>
          <p:nvPr/>
        </p:nvPicPr>
        <p:blipFill>
          <a:blip r:embed="rId1"/>
          <a:stretch/>
        </p:blipFill>
        <p:spPr>
          <a:xfrm>
            <a:off x="685800" y="1447920"/>
            <a:ext cx="6753240" cy="38383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"/>
          <p:cNvSpPr/>
          <p:nvPr/>
        </p:nvSpPr>
        <p:spPr>
          <a:xfrm>
            <a:off x="2438280" y="1905120"/>
            <a:ext cx="3200400" cy="45972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cc0066"/>
                </a:solidFill>
                <a:latin typeface="Arial Black"/>
              </a:rPr>
              <a:t>Хумани инсу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4343400" y="2666880"/>
            <a:ext cx="106668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cc0066"/>
                </a:solidFill>
                <a:latin typeface="Arial Black"/>
              </a:rPr>
              <a:t>Ланац 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"/>
          <p:cNvSpPr/>
          <p:nvPr/>
        </p:nvSpPr>
        <p:spPr>
          <a:xfrm>
            <a:off x="4267080" y="3886200"/>
            <a:ext cx="1067040" cy="27648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cc0066"/>
                </a:solidFill>
                <a:latin typeface="Arial Black"/>
              </a:rPr>
              <a:t>Ланац 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Велики број гена је активан само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ћелијама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поједин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 ткив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или у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одре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еном период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има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развића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800" spc="-1" strike="noStrike">
                <a:solidFill>
                  <a:srgbClr val="ff3399"/>
                </a:solidFill>
                <a:latin typeface="Arial"/>
              </a:rPr>
              <a:t>ЕПИГЕНЕТ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ИЧ</a:t>
            </a:r>
            <a:r>
              <a:rPr b="1" i="1" lang="sr-Latn-CS" sz="2800" spc="-1" strike="noStrike">
                <a:solidFill>
                  <a:srgbClr val="ff3399"/>
                </a:solidFill>
                <a:latin typeface="Arial"/>
              </a:rPr>
              <a:t>К</a:t>
            </a:r>
            <a:r>
              <a:rPr b="1" i="1" lang="en-US" sz="2800" spc="-1" strike="noStrike">
                <a:solidFill>
                  <a:srgbClr val="ff3399"/>
                </a:solidFill>
                <a:latin typeface="Arial"/>
              </a:rPr>
              <a:t>А РЕГУЛАЦИЈА ЕКСПРЕСИЈЕ</a:t>
            </a:r>
            <a:r>
              <a:rPr b="1" i="1" lang="sr-Latn-CS" sz="2800" spc="-1" strike="noStrike">
                <a:solidFill>
                  <a:srgbClr val="ff3399"/>
                </a:solidFill>
                <a:latin typeface="Arial"/>
              </a:rPr>
              <a:t> Г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гулација 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транскрипције и транслације се одвијај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ханизмима тип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укљу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чи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sr-Latn-CS" sz="2800" spc="-1" strike="noStrike">
                <a:solidFill>
                  <a:srgbClr val="0000cc"/>
                </a:solidFill>
                <a:latin typeface="Arial"/>
              </a:rPr>
              <a:t>искључ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600" spc="-1" strike="noStrike">
                <a:solidFill>
                  <a:srgbClr val="000000"/>
                </a:solidFill>
                <a:latin typeface="Arial"/>
              </a:rPr>
              <a:t>Регулација синтезе протеина</a:t>
            </a:r>
            <a:endParaRPr b="0" lang="en-US" sz="4600" spc="-1" strike="noStrike">
              <a:solidFill>
                <a:srgbClr val="dbf5f9"/>
              </a:solidFill>
              <a:latin typeface="Arial"/>
            </a:endParaRPr>
          </a:p>
        </p:txBody>
      </p:sp>
      <p:graphicFrame>
        <p:nvGraphicFramePr>
          <p:cNvPr id="192" name="Object 8"/>
          <p:cNvGraphicFramePr/>
          <p:nvPr/>
        </p:nvGraphicFramePr>
        <p:xfrm>
          <a:off x="3048120" y="1143000"/>
          <a:ext cx="320328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143000"/>
                    <a:ext cx="320328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704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000000"/>
                </a:solidFill>
                <a:latin typeface="Arial"/>
              </a:rPr>
              <a:t>РЕГУЛАЦИЈА ТРАНСКРИПЦИЈЕ</a:t>
            </a:r>
            <a:endParaRPr b="0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ретранскрипциони ни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ранскрипциони ни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осттранскрипциони ни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ЕТРАНСКРИПЦИОНИ НИВО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: декондензација хроматина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мплификација гена, генски реаранжмани, метилација ДНК</a:t>
            </a:r>
            <a:br>
              <a:rPr sz="3200"/>
            </a:br>
            <a:endParaRPr b="0" lang="en-US" sz="32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2590920"/>
            <a:ext cx="586728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А)</a:t>
            </a:r>
            <a:r>
              <a:rPr b="1" lang="sr-CS" sz="2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</a:rPr>
              <a:t>Декондензација хроматин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стају хиперсензитивна мест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Хроматинска структура се своди  на ниво перл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тог влакна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11" descr="Stages%20of%20gene%20activation"/>
          <p:cNvPicPr/>
          <p:nvPr/>
        </p:nvPicPr>
        <p:blipFill>
          <a:blip r:embed="rId1"/>
          <a:srcRect l="20521" t="14718" r="23366" b="0"/>
          <a:stretch/>
        </p:blipFill>
        <p:spPr>
          <a:xfrm>
            <a:off x="5638680" y="2362320"/>
            <a:ext cx="342900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Б) Амплификација гена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множавање броја гена - циљ је повећање количине продукта таквог гена ( нпр. у оогенези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могућено је акумулирање великих количина РНК које ће функционисати у младом ембрион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В) Реаранжирање ДНК</a:t>
            </a:r>
            <a:endParaRPr b="0" lang="en-US" sz="36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комбиновање генских сегмената пре његове транскрипције,  нпр. диференцијација ћелија у којима се продукују антит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ма потврде да се дешава у другим ћелијама сис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Korisnik</cp:lastModifiedBy>
  <dcterms:modified xsi:type="dcterms:W3CDTF">2018-09-04T09:59:39Z</dcterms:modified>
  <cp:revision>77</cp:revision>
  <dc:subject/>
  <dc:title>2-Humani genom</dc:title>
</cp:coreProperties>
</file>